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23B-AB43-4A54-B020-5E3EF4BD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D8D-FF8D-4AD5-B3F7-C1FD0A50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D13-8AC6-48B8-9B4B-28993E2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F6E-80D2-48C2-8460-EABAD775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E45-742F-4396-B0DF-40ADF82D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E947-4642-45D4-A920-DFECB68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535C-98FA-4096-8A22-8F335DAA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29E-D59A-409E-BD13-222D0E3D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0300-9019-46C0-B2D8-42ED70E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471-1A55-494E-B638-35EF1844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F12F-7B86-4F3C-B09F-1E1709F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0D0-CDD8-43B9-ABD6-0E45AF5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C03F-22BF-4232-91BC-43E384B0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F454-0413-4F21-A7BE-714D715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9884-50F6-4D30-B2A9-380F7F9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683C-BF58-4E86-BEA5-B6C41501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6F34-A65F-4F40-AD11-EF1D4363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15E-8020-4AE3-B82B-427E7E6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53C-F41A-4CB0-B06F-11532CB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A66-9ACD-45FB-A79B-585ECE2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DFC-080A-44B8-BE2E-08427C5C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8D9-4668-446E-8ED3-0F1765B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272-4C24-4955-92FD-32FFD72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77E-57CE-41B9-8811-6B7EBAD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751-76B2-4F5E-9FC4-24D5235ABB5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C336-D6A0-440C-B587-6A6B8173522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ample</a:t>
            </a:r>
            <a:br>
              <a:rPr sz="8000"/>
            </a:b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olutions</a:t>
            </a:r>
            <a:br>
              <a:rPr sz="80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Europe Regional Contest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a circle that covers most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may not be in an exis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will always touch 2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6576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800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19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all pairs, find a circ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all other points must be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39625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197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oint, us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e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interesting angles“ and sor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9625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4290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6324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e sorting for each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. log 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"/>
              </a:rPr>
              <a:t>Carefull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y with floating point number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1981080"/>
            <a:ext cx="51055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: Hexa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l combinations of 2 green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05320"/>
            <a:ext cx="17524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114800"/>
            <a:ext cx="13716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886200"/>
            <a:ext cx="12193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800" y="28954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257800" y="38862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04812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41008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956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33920"/>
            <a:ext cx="30456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andle “special” c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581280"/>
            <a:ext cx="32004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4120" y="33526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334120" y="43434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12408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748200">
            <a:off x="2361960" y="358092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49528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1911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Solution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r all area subsets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, find the best solution using each parc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K: Key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09680" y="2209680"/>
          <a:ext cx="4800600" cy="4038840"/>
        </p:xfrm>
        <a:graphic>
          <a:graphicData uri="http://schemas.openxmlformats.org/drawingml/2006/table">
            <a:tbl>
              <a:tblPr/>
              <a:tblGrid>
                <a:gridCol w="479520"/>
                <a:gridCol w="480960"/>
                <a:gridCol w="479520"/>
                <a:gridCol w="480960"/>
                <a:gridCol w="479520"/>
                <a:gridCol w="479520"/>
                <a:gridCol w="480960"/>
                <a:gridCol w="479160"/>
                <a:gridCol w="481320"/>
                <a:gridCol w="4791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eadth-First 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mbination of position and keys (!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4 keys =&gt; 16 combi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B: Billboar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2438280"/>
          <a:ext cx="3581640" cy="3125880"/>
        </p:xfrm>
        <a:graphic>
          <a:graphicData uri="http://schemas.openxmlformats.org/drawingml/2006/table">
            <a:tbl>
              <a:tblPr/>
              <a:tblGrid>
                <a:gridCol w="400320"/>
                <a:gridCol w="395280"/>
                <a:gridCol w="347400"/>
                <a:gridCol w="449280"/>
                <a:gridCol w="397080"/>
                <a:gridCol w="398520"/>
                <a:gridCol w="398160"/>
                <a:gridCol w="395280"/>
                <a:gridCol w="4003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(1,7)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8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6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3400" y="2819520"/>
          <a:ext cx="4268880" cy="3554280"/>
        </p:xfrm>
        <a:graphic>
          <a:graphicData uri="http://schemas.openxmlformats.org/drawingml/2006/table">
            <a:tbl>
              <a:tblPr/>
              <a:tblGrid>
                <a:gridCol w="427320"/>
                <a:gridCol w="426960"/>
                <a:gridCol w="425520"/>
                <a:gridCol w="428400"/>
                <a:gridCol w="426960"/>
                <a:gridCol w="425520"/>
                <a:gridCol w="428760"/>
                <a:gridCol w="425520"/>
                <a:gridCol w="426960"/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716292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086600" y="2514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124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L: Logi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38098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? There is no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” follow the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 logical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s with no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ting and joining pat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We must remember, what has already been comp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N: Numb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73392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01010100101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= -1090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the formula in the problem stat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257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-4000 + 200 – 50 + 7 = -384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remainders (modul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reful with the negative number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237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2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4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&gt; 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1637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P: Poly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2819520"/>
            <a:ext cx="0" cy="2590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400800" y="38095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3809880"/>
            <a:ext cx="1828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809880"/>
            <a:ext cx="0" cy="609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281916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order of polygon vert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792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3868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4038480" y="1904400"/>
            <a:ext cx="990360" cy="990720"/>
          </a:xfrm>
          <a:prstGeom prst="downArrow">
            <a:avLst>
              <a:gd name="adj1" fmla="val 39722"/>
              <a:gd name="adj2" fmla="val 46971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86200"/>
            <a:ext cx="82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st all existing sub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"/>
              </a:rPr>
              <a:t>256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possibilit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16x16 bo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the vertices by their X 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Find their horizont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8098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5410080"/>
            <a:ext cx="3504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by Y =&gt; vertic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43200" y="28195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38098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each vertex knows its neighb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first, and walk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 Left / Right tur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eft &gt; Right 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counter-clock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895480"/>
            <a:ext cx="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410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24480" y="38095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743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666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5029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5105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R: Roshamb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495680" cy="359712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: Robotic Sor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38862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ive approach – reverse in an arr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tle bit better: remember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atic tim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00 0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380988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4191120" y="4724280"/>
            <a:ext cx="733320" cy="60984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556272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Another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-linked l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finding th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„forward direction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055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34290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4290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752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74320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7339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483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627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5530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752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6483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467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467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7913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6212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61760" y="6324480"/>
            <a:ext cx="5105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86728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867280" y="5715000"/>
            <a:ext cx="152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5410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2120" y="480060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4343400"/>
            <a:ext cx="733680" cy="60948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21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mbined solu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use bo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ked li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rray of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ray time: O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_bef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SQRT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steps: re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.SQRT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19720"/>
            <a:ext cx="822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f we somehow knew the tapped tiles in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possibilities - ?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al Tre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W: Wate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214800" cy="40384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ount of water with the lowest c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114800"/>
            <a:ext cx="1524240" cy="1219320"/>
          </a:xfrm>
          <a:custGeom>
            <a:avLst/>
            <a:gdLst>
              <a:gd name="textAreaLeft" fmla="*/ 336960 w 1524240"/>
              <a:gd name="textAreaRight" fmla="*/ 1187280 w 1524240"/>
              <a:gd name="textAreaTop" fmla="*/ 269640 h 1219320"/>
              <a:gd name="textAreaBottom" fmla="*/ 94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53" y="21600"/>
                </a:lnTo>
                <a:lnTo>
                  <a:pt x="5447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 the glass into horizonta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one slice: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733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3505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3962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1911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4197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648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876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191120"/>
            <a:ext cx="1447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Mass of the g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of al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5562720"/>
            <a:ext cx="16761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 water “slow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water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both cente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eighted averag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33920" y="46483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reached the center ? =&gt;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N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Linear time needed onl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Arial"/>
              </a:rPr>
              <a:t>Statistic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47920" y="1981080"/>
          <a:ext cx="5910120" cy="4348440"/>
        </p:xfrm>
        <a:graphic>
          <a:graphicData uri="http://schemas.openxmlformats.org/drawingml/2006/table">
            <a:tbl>
              <a:tblPr/>
              <a:tblGrid>
                <a:gridCol w="1616040"/>
                <a:gridCol w="858600"/>
                <a:gridCol w="858960"/>
                <a:gridCol w="858960"/>
                <a:gridCol w="858600"/>
                <a:gridCol w="85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lboar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xa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ey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y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shamb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also do i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ird row becomes ev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k, but how to find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We will try all possibiliti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* 16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2438280"/>
            <a:ext cx="609588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C: Phone Cel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902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0:40:39Z</dcterms:created>
  <dc:creator>Martin Kacer</dc:creator>
  <dc:description/>
  <dc:language>en-US</dc:language>
  <cp:lastModifiedBy>Martin Kačer</cp:lastModifiedBy>
  <dcterms:modified xsi:type="dcterms:W3CDTF">2007-11-15T09:14:24Z</dcterms:modified>
  <cp:revision>115</cp:revision>
  <dc:subject/>
  <dc:title>Slide 1</dc:title>
</cp:coreProperties>
</file>