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66B8-7B46-41DD-B6D7-C6154A5A633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BB83-CE41-48CA-950F-B7399A8E95F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FFA7-B7E0-4C27-923D-15118BD3E01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1880" y="-360"/>
            <a:ext cx="78868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1880" y="-360"/>
            <a:ext cx="78868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blue bar small"/>
          <p:cNvPicPr/>
          <p:nvPr/>
        </p:nvPicPr>
        <p:blipFill>
          <a:blip r:embed="rId2"/>
          <a:stretch/>
        </p:blipFill>
        <p:spPr>
          <a:xfrm>
            <a:off x="0" y="0"/>
            <a:ext cx="8982000" cy="89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253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0" descr="logo2011"/>
          <p:cNvPicPr/>
          <p:nvPr/>
        </p:nvPicPr>
        <p:blipFill>
          <a:blip r:embed="rId3"/>
          <a:stretch/>
        </p:blipFill>
        <p:spPr>
          <a:xfrm>
            <a:off x="7764480" y="5452920"/>
            <a:ext cx="1379520" cy="14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498600" y="3186000"/>
            <a:ext cx="8194680" cy="166680"/>
          </a:xfrm>
          <a:prstGeom prst="rect">
            <a:avLst/>
          </a:prstGeom>
          <a:solidFill>
            <a:srgbClr val="006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253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6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 outline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PC Finals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5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E – Undercover Pirat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A: 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 ≤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B: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C: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D: Ninjas that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#times to use th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ecessary invaria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|A| + |B| + |C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1 (start cas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A|/2 , (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1)/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E – Undercover Pirat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ecessary invaria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|A| + |B| + |C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2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A|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|D|, |B| = |C| = 0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A| ,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A| = 0, |B| + |C| 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e |B| ≥ |C|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a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B|/2 &lt;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|B|/2, 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C|/2 ,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C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b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B|/2 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so a base case f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icky to keep track of (ranges) of ninja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 – Find the Treasur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view defines 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nd with treasure must be above or below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Basic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convex polygon from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mortized O(log m) per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every island with convex poly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(log m) time per i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35680" y="2768760"/>
            <a:ext cx="2606760" cy="2346120"/>
          </a:xfrm>
          <a:custGeom>
            <a:avLst/>
            <a:gdLst/>
            <a:ahLst/>
            <a:rect l="l" t="t" r="r" b="b"/>
            <a:pathLst>
              <a:path w="1364" h="1163">
                <a:moveTo>
                  <a:pt x="875" y="0"/>
                </a:moveTo>
                <a:lnTo>
                  <a:pt x="332" y="54"/>
                </a:lnTo>
                <a:lnTo>
                  <a:pt x="0" y="370"/>
                </a:lnTo>
                <a:lnTo>
                  <a:pt x="60" y="913"/>
                </a:lnTo>
                <a:lnTo>
                  <a:pt x="669" y="1163"/>
                </a:lnTo>
                <a:lnTo>
                  <a:pt x="1304" y="870"/>
                </a:lnTo>
                <a:lnTo>
                  <a:pt x="1364" y="310"/>
                </a:lnTo>
                <a:lnTo>
                  <a:pt x="87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702400" y="2381040"/>
            <a:ext cx="2035080" cy="164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61240" y="2760840"/>
            <a:ext cx="2579400" cy="2352600"/>
          </a:xfrm>
          <a:custGeom>
            <a:avLst/>
            <a:gdLst/>
            <a:ahLst/>
            <a:rect l="l" t="t" r="r" b="b"/>
            <a:pathLst>
              <a:path w="1625" h="1482">
                <a:moveTo>
                  <a:pt x="1032" y="0"/>
                </a:moveTo>
                <a:lnTo>
                  <a:pt x="788" y="27"/>
                </a:lnTo>
                <a:lnTo>
                  <a:pt x="0" y="663"/>
                </a:lnTo>
                <a:lnTo>
                  <a:pt x="55" y="1164"/>
                </a:lnTo>
                <a:lnTo>
                  <a:pt x="788" y="1482"/>
                </a:lnTo>
                <a:lnTo>
                  <a:pt x="1553" y="1110"/>
                </a:lnTo>
                <a:lnTo>
                  <a:pt x="1625" y="398"/>
                </a:lnTo>
                <a:lnTo>
                  <a:pt x="1032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92960" y="3916440"/>
            <a:ext cx="54000" cy="540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389720" y="2751120"/>
            <a:ext cx="63720" cy="2290680"/>
            <a:chOff x="7389720" y="2751120"/>
            <a:chExt cx="63720" cy="2290680"/>
          </a:xfrm>
        </p:grpSpPr>
        <p:sp>
          <p:nvSpPr>
            <p:cNvPr id="196" name=""/>
            <p:cNvSpPr/>
            <p:nvPr/>
          </p:nvSpPr>
          <p:spPr>
            <a:xfrm>
              <a:off x="7418520" y="2778120"/>
              <a:ext cx="0" cy="2243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89720" y="275112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9440" y="498780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 – Find the Treasur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lternat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i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in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comes a line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–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ne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x + B becomes a poin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L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A, -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ness relation is p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line (view) is now a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wo convex ch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raham scan o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island is now 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nd is valid if it doesn’t cross a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using binary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80200" y="2786040"/>
            <a:ext cx="2079720" cy="803160"/>
          </a:xfrm>
          <a:custGeom>
            <a:avLst/>
            <a:gdLst/>
            <a:ahLst/>
            <a:rect l="l" t="t" r="r" b="b"/>
            <a:pathLst>
              <a:path w="1310" h="506">
                <a:moveTo>
                  <a:pt x="0" y="22"/>
                </a:moveTo>
                <a:lnTo>
                  <a:pt x="0" y="201"/>
                </a:lnTo>
                <a:lnTo>
                  <a:pt x="310" y="435"/>
                </a:lnTo>
                <a:lnTo>
                  <a:pt x="853" y="506"/>
                </a:lnTo>
                <a:lnTo>
                  <a:pt x="1310" y="163"/>
                </a:lnTo>
                <a:lnTo>
                  <a:pt x="1310" y="0"/>
                </a:lnTo>
              </a:path>
            </a:pathLst>
          </a:custGeom>
          <a:noFill/>
          <a:ln w="19080">
            <a:solidFill>
              <a:srgbClr val="0066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70480" y="4657680"/>
            <a:ext cx="2019600" cy="966960"/>
          </a:xfrm>
          <a:custGeom>
            <a:avLst/>
            <a:gdLst/>
            <a:ahLst/>
            <a:rect l="l" t="t" r="r" b="b"/>
            <a:pathLst>
              <a:path w="1272" h="609">
                <a:moveTo>
                  <a:pt x="0" y="609"/>
                </a:moveTo>
                <a:lnTo>
                  <a:pt x="0" y="440"/>
                </a:lnTo>
                <a:lnTo>
                  <a:pt x="555" y="0"/>
                </a:lnTo>
                <a:lnTo>
                  <a:pt x="1272" y="207"/>
                </a:lnTo>
                <a:lnTo>
                  <a:pt x="1272" y="555"/>
                </a:lnTo>
              </a:path>
            </a:pathLst>
          </a:custGeom>
          <a:noFill/>
          <a:ln w="19080">
            <a:solidFill>
              <a:srgbClr val="0066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246720" y="3022560"/>
            <a:ext cx="2143080" cy="2363760"/>
            <a:chOff x="6246720" y="3022560"/>
            <a:chExt cx="2143080" cy="2363760"/>
          </a:xfrm>
        </p:grpSpPr>
        <p:sp>
          <p:nvSpPr>
            <p:cNvPr id="204" name=""/>
            <p:cNvSpPr/>
            <p:nvPr/>
          </p:nvSpPr>
          <p:spPr>
            <a:xfrm>
              <a:off x="6254640" y="30812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45320" y="345132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74080" y="3035160"/>
              <a:ext cx="5364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12200" y="35672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35800" y="302256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46720" y="533232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07320" y="514980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22960" y="463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67760" y="49658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581800" y="3330720"/>
            <a:ext cx="3243240" cy="2017440"/>
          </a:xfrm>
          <a:prstGeom prst="line">
            <a:avLst/>
          </a:prstGeom>
          <a:ln w="19080">
            <a:solidFill>
              <a:srgbClr val="d6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607000" y="3061800"/>
            <a:ext cx="3252960" cy="552600"/>
          </a:xfrm>
          <a:prstGeom prst="line">
            <a:avLst/>
          </a:prstGeom>
          <a:ln w="19080">
            <a:solidFill>
              <a:srgbClr val="d6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J – Treasure Map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8120" y="11394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malles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if and only 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4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dividers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y to sol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51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51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smalles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73320" y="4948200"/>
            <a:ext cx="530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H – Walking the Plank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imul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queues on both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riority queue for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order of pirates is correc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imply handle all events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B – Quick out of the Harbour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ally a shortest path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using Dijk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using B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in a standard 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how need to expand single step into d+1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275520" y="3841920"/>
            <a:ext cx="487080" cy="582480"/>
          </a:xfrm>
          <a:custGeom>
            <a:avLst/>
            <a:gdLst/>
            <a:ahLst/>
            <a:rect l="l" t="t" r="r" b="b"/>
            <a:pathLst>
              <a:path w="307" h="367">
                <a:moveTo>
                  <a:pt x="307" y="242"/>
                </a:moveTo>
                <a:lnTo>
                  <a:pt x="181" y="367"/>
                </a:lnTo>
                <a:lnTo>
                  <a:pt x="0" y="195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nd mirror room to simulate reflection (boun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“rooms” wit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u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compute clos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ype of bou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 sort and remove 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ch out for overfl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in O(1)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65560" y="4226040"/>
            <a:ext cx="796680" cy="795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F – Ultimate Finishing Strik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275520" y="3635280"/>
            <a:ext cx="796680" cy="789120"/>
            <a:chOff x="6275520" y="3635280"/>
            <a:chExt cx="796680" cy="789120"/>
          </a:xfrm>
        </p:grpSpPr>
        <p:sp>
          <p:nvSpPr>
            <p:cNvPr id="100" name=""/>
            <p:cNvSpPr/>
            <p:nvPr/>
          </p:nvSpPr>
          <p:spPr>
            <a:xfrm>
              <a:off x="6275520" y="3635280"/>
              <a:ext cx="796680" cy="7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38840" y="420372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8120" y="3814920"/>
              <a:ext cx="53640" cy="5364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276960" y="2060640"/>
            <a:ext cx="797040" cy="788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4680" y="3638520"/>
            <a:ext cx="79704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1720" y="284796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74000" y="284796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0680" y="3637080"/>
            <a:ext cx="797040" cy="788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1720" y="442584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4000" y="442584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76960" y="5214960"/>
            <a:ext cx="79704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967280" y="2239920"/>
            <a:ext cx="3240000" cy="3208320"/>
            <a:chOff x="4967280" y="2239920"/>
            <a:chExt cx="3240000" cy="3208320"/>
          </a:xfrm>
        </p:grpSpPr>
        <p:sp>
          <p:nvSpPr>
            <p:cNvPr id="112" name=""/>
            <p:cNvSpPr/>
            <p:nvPr/>
          </p:nvSpPr>
          <p:spPr>
            <a:xfrm>
              <a:off x="6276960" y="2847960"/>
              <a:ext cx="797040" cy="7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9560" y="34084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9560" y="223992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1720" y="3637080"/>
              <a:ext cx="79668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5476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67280" y="38178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51520" y="34164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37320" y="34164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74000" y="3637080"/>
              <a:ext cx="79668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3912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5328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5040" y="49942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76960" y="4427640"/>
              <a:ext cx="79704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9560" y="499572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37320" y="49942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9560" y="539424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I – Parking Ship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ships must follow order of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DP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[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minimum coordinate of right side of rightmost ship placing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ships of ships 1 ..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∞ if not feas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ship, decide to place it (if possible)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ship as far to the left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pecial case for captain (or solve two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Greedy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s next ship the one for which the right side is left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ies by order of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un in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ime, but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DP) is 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D – Bad Wiring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ping a switch twice does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is essentially a bi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backtracking from left to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 switch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some point light moves out of “windo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at point choice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time is O(n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lternat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linear system in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not uniqu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mpute null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884840" y="4699080"/>
            <a:ext cx="3435120" cy="322200"/>
            <a:chOff x="4884840" y="4699080"/>
            <a:chExt cx="3435120" cy="32220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5256360" y="47084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6048360" y="4707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6453360" y="47149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6869160" y="4716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7661160" y="47149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8015400" y="4707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4884840" y="46990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8"/>
            <a:stretch/>
          </p:blipFill>
          <p:spPr>
            <a:xfrm>
              <a:off x="5653080" y="470844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9"/>
            <a:stretch/>
          </p:blipFill>
          <p:spPr>
            <a:xfrm>
              <a:off x="7257960" y="47163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4094280" y="4657680"/>
            <a:ext cx="1888920" cy="379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6296E-006 L 0.08403 -2.96296E-006 E">
                                      <p:cBhvr>
                                        <p:cTn id="23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ll balloons as circular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some geometric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canonical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ine passes through endpoint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mallest set of lines piercing all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a starting line (try 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rest gree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in O(n log n)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A – Popping Balloon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51480" y="3494160"/>
            <a:ext cx="2890800" cy="2398680"/>
            <a:chOff x="4551480" y="3494160"/>
            <a:chExt cx="2890800" cy="2398680"/>
          </a:xfrm>
        </p:grpSpPr>
        <p:sp>
          <p:nvSpPr>
            <p:cNvPr id="146" name=""/>
            <p:cNvSpPr/>
            <p:nvPr/>
          </p:nvSpPr>
          <p:spPr>
            <a:xfrm>
              <a:off x="6081840" y="4815000"/>
              <a:ext cx="36360" cy="363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54760" y="391788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62760" y="378612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51480" y="471816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67360" y="497844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73600" y="3494160"/>
              <a:ext cx="554040" cy="554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88240" y="5191200"/>
              <a:ext cx="554040" cy="554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460760" y="3193920"/>
            <a:ext cx="3238560" cy="3238560"/>
          </a:xfrm>
          <a:prstGeom prst="ellipse">
            <a:avLst/>
          </a:prstGeom>
          <a:noFill/>
          <a:ln w="19080">
            <a:solidFill>
              <a:srgbClr val="d6004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227120" y="3044520"/>
            <a:ext cx="3355560" cy="3451320"/>
            <a:chOff x="4227120" y="3044520"/>
            <a:chExt cx="3355560" cy="3451320"/>
          </a:xfrm>
        </p:grpSpPr>
        <p:sp>
          <p:nvSpPr>
            <p:cNvPr id="155" name=""/>
            <p:cNvSpPr/>
            <p:nvPr/>
          </p:nvSpPr>
          <p:spPr>
            <a:xfrm flipH="1">
              <a:off x="4227120" y="481320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5632200" y="3044520"/>
              <a:ext cx="36360" cy="17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22880" y="3111120"/>
              <a:ext cx="3259800" cy="33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2"/>
                  </a:moveTo>
                  <a:arcTo wR="10800" hR="10800" stAng="10799360" swAng="4762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2"/>
                  </a:moveTo>
                  <a:arcTo wR="10800" hR="10800" stAng="10799360" swAng="476284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211280" y="2924280"/>
            <a:ext cx="3598200" cy="3641400"/>
            <a:chOff x="4211280" y="2924280"/>
            <a:chExt cx="3598200" cy="3641400"/>
          </a:xfrm>
        </p:grpSpPr>
        <p:sp>
          <p:nvSpPr>
            <p:cNvPr id="159" name=""/>
            <p:cNvSpPr/>
            <p:nvPr/>
          </p:nvSpPr>
          <p:spPr>
            <a:xfrm flipH="1" flipV="1">
              <a:off x="5332320" y="3003480"/>
              <a:ext cx="6840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315120" y="2924280"/>
              <a:ext cx="252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11280" y="2965320"/>
              <a:ext cx="3598200" cy="360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21" y="721"/>
                  </a:moveTo>
                  <a:arcTo wR="10800" hR="10800" stAng="-6662972" swAng="1885290"/>
                  <a:lnTo>
                    <a:pt x="10800" y="10800"/>
                  </a:lnTo>
                  <a:close/>
                </a:path>
                <a:path fill="none" w="21600" h="21600">
                  <a:moveTo>
                    <a:pt x="6921" y="721"/>
                  </a:moveTo>
                  <a:arcTo wR="10800" hR="10800" stAng="-6662972" swAng="188529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76720" y="3009960"/>
            <a:ext cx="3656160" cy="3688560"/>
            <a:chOff x="4176720" y="3009960"/>
            <a:chExt cx="3656160" cy="3688560"/>
          </a:xfrm>
        </p:grpSpPr>
        <p:sp>
          <p:nvSpPr>
            <p:cNvPr id="163" name=""/>
            <p:cNvSpPr/>
            <p:nvPr/>
          </p:nvSpPr>
          <p:spPr>
            <a:xfrm flipH="1" flipV="1">
              <a:off x="5996160" y="3009960"/>
              <a:ext cx="792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659720" y="4330440"/>
              <a:ext cx="1731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720" y="3098880"/>
              <a:ext cx="3654360" cy="359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60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60098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252680" y="2931840"/>
            <a:ext cx="3600360" cy="3667320"/>
            <a:chOff x="4252680" y="2931840"/>
            <a:chExt cx="3600360" cy="3667320"/>
          </a:xfrm>
        </p:grpSpPr>
        <p:sp>
          <p:nvSpPr>
            <p:cNvPr id="167" name=""/>
            <p:cNvSpPr/>
            <p:nvPr/>
          </p:nvSpPr>
          <p:spPr>
            <a:xfrm>
              <a:off x="7626240" y="5375160"/>
              <a:ext cx="1810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667120" y="6410160"/>
              <a:ext cx="3492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52680" y="2931840"/>
              <a:ext cx="3600360" cy="360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99" y="14882"/>
                  </a:moveTo>
                  <a:arcTo wR="10800" hR="10800" stAng="1332566" swAng="4775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99" y="14882"/>
                  </a:moveTo>
                  <a:arcTo wR="10800" hR="10800" stAng="1332566" swAng="4775344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334400" y="3090240"/>
            <a:ext cx="3636360" cy="3598200"/>
            <a:chOff x="4334400" y="3090240"/>
            <a:chExt cx="3636360" cy="3598200"/>
          </a:xfrm>
        </p:grpSpPr>
        <p:sp>
          <p:nvSpPr>
            <p:cNvPr id="171" name=""/>
            <p:cNvSpPr/>
            <p:nvPr/>
          </p:nvSpPr>
          <p:spPr>
            <a:xfrm>
              <a:off x="7790040" y="5375160"/>
              <a:ext cx="18072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2960" y="6056280"/>
              <a:ext cx="13824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34400" y="3090240"/>
              <a:ext cx="3614760" cy="359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39" y="13921"/>
                  </a:moveTo>
                  <a:arcTo wR="10800" hR="10800" stAng="1007919" swAng="15967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39" y="13921"/>
                  </a:moveTo>
                  <a:arcTo wR="10800" hR="10800" stAng="1007919" swAng="159670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088880" y="2848680"/>
            <a:ext cx="3843720" cy="3847680"/>
            <a:chOff x="4088880" y="2848680"/>
            <a:chExt cx="3843720" cy="3847680"/>
          </a:xfrm>
        </p:grpSpPr>
        <p:sp>
          <p:nvSpPr>
            <p:cNvPr id="175" name=""/>
            <p:cNvSpPr/>
            <p:nvPr/>
          </p:nvSpPr>
          <p:spPr>
            <a:xfrm flipH="1" flipV="1">
              <a:off x="4088880" y="4614480"/>
              <a:ext cx="17316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587840" y="6014880"/>
              <a:ext cx="130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60880" y="2848680"/>
              <a:ext cx="3771720" cy="384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36" y="18095"/>
                  </a:moveTo>
                  <a:arcTo wR="10800" hR="10800" stAng="8250613" swAng="2799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36" y="18095"/>
                  </a:moveTo>
                  <a:arcTo wR="10800" hR="10800" stAng="8250613" swAng="2799697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V="1">
            <a:off x="6099120" y="2734920"/>
            <a:ext cx="103320" cy="209556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99120" y="2742840"/>
            <a:ext cx="258840" cy="208764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9120" y="4830840"/>
            <a:ext cx="1500120" cy="142380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054320" y="4606920"/>
            <a:ext cx="2044800" cy="22392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G – Doubloon gam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nother NIM-var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Shuriken Game from Prelimin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DP does 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ic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“nimbers” from impartial gam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0) = 0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eans you 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mex( {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|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ower o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)) mod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solution is 1 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Simple Solu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recognize pattern and mak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63880" y="4421160"/>
            <a:ext cx="177840" cy="642960"/>
          </a:xfrm>
          <a:custGeom>
            <a:avLst/>
            <a:gdLst/>
            <a:ahLst/>
            <a:rect l="l" t="t" r="r" b="b"/>
            <a:pathLst>
              <a:path w="112" h="405">
                <a:moveTo>
                  <a:pt x="112" y="2"/>
                </a:moveTo>
                <a:cubicBezTo>
                  <a:pt x="104" y="5"/>
                  <a:pt x="71" y="0"/>
                  <a:pt x="61" y="25"/>
                </a:cubicBezTo>
                <a:cubicBezTo>
                  <a:pt x="51" y="50"/>
                  <a:pt x="61" y="125"/>
                  <a:pt x="51" y="151"/>
                </a:cubicBezTo>
                <a:cubicBezTo>
                  <a:pt x="41" y="177"/>
                  <a:pt x="0" y="169"/>
                  <a:pt x="0" y="179"/>
                </a:cubicBezTo>
                <a:cubicBezTo>
                  <a:pt x="0" y="189"/>
                  <a:pt x="42" y="179"/>
                  <a:pt x="51" y="211"/>
                </a:cubicBezTo>
                <a:cubicBezTo>
                  <a:pt x="60" y="243"/>
                  <a:pt x="46" y="343"/>
                  <a:pt x="56" y="374"/>
                </a:cubicBezTo>
                <a:cubicBezTo>
                  <a:pt x="66" y="405"/>
                  <a:pt x="88" y="400"/>
                  <a:pt x="112" y="39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0:16Z</dcterms:created>
  <dc:creator>BCF</dc:creator>
  <dc:description>Design by Volle Kracht
Template by Orange Pepper BV
Copyright 2008</dc:description>
  <dc:language>en-US</dc:language>
  <cp:lastModifiedBy>BCF</cp:lastModifiedBy>
  <dcterms:modified xsi:type="dcterms:W3CDTF">2011-10-10T12:13:05Z</dcterms:modified>
  <cp:revision>626</cp:revision>
  <dc:subject/>
  <dc:title>Area-Universal  Rectangular Layouts</dc:title>
</cp:coreProperties>
</file>