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5C6-3014-4624-AAEB-3C634CE3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ED2-551E-4E56-9964-331A9213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905-3DD9-4AA3-99F3-6982D159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953-EA88-489F-AE09-434E77B7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E3CC-0DB0-4FE9-80E4-9F2039DD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243B-CF32-4B88-BE90-64EA53C8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7933-045A-49F2-9247-0C653C13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E64-E5A5-487B-8301-FE1F5F2B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BFCC-EDC9-470A-B206-7A74AA67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6B63-D321-4482-A728-9A396E57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5D6-9DC7-4DAB-97C0-9FD41143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B9C-AE87-41A9-9D03-D4F1A33B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C804-20CE-44CB-AEB3-DA303150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726C-DD90-45DA-AAA1-B53256E9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A457-AED5-408A-B4A5-2B95EDF9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464C-E132-476A-89F3-F1168316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F879-501E-4FC7-AFBF-25805DBD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7E3-6E31-43E3-894B-D7F0F802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2B7-1FDB-454F-892E-63D20FC6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2E8-A7CE-4282-A079-F28C46DC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C02-AF5F-47D5-85B0-C90DB755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FDC-54D5-4BE0-83C1-A6927006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15B-D4FF-4DC0-8AEB-67E23C0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68B-62DE-4812-B536-7FA0165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C273-D78F-4D68-9516-56768B0CF9A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620F-9E55-4F8A-BE64-27D5B11AACF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ample</a:t>
            </a:r>
            <a:br>
              <a:rPr sz="8000"/>
            </a:b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olutions</a:t>
            </a:r>
            <a:br>
              <a:rPr sz="80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ntral Europe Regional Contest 2007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a circle that covers most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may not be in an existing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ution will always touch 2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36576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800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6019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ke all pairs, find a circ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 all other points must be tes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114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39625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4876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197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ach point, us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wee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techniq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„interesting angles“ and sort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9625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289548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505320"/>
            <a:ext cx="2590920" cy="259056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429000"/>
            <a:ext cx="2590920" cy="2590920"/>
          </a:xfrm>
          <a:prstGeom prst="ellipse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25780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6324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7242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14800" y="40384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ell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One sorting for each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. log 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cc"/>
                </a:solidFill>
                <a:latin typeface="Arial"/>
              </a:rPr>
              <a:t>Carefull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y with floating point number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81080" y="1981080"/>
            <a:ext cx="51055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H: Hexa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ll combinations of 2 green poi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505320"/>
            <a:ext cx="175248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666880" y="4114800"/>
            <a:ext cx="13716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038120" y="3886200"/>
            <a:ext cx="12193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57800" y="28954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257800" y="38862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304812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541008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25909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44956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6200" y="39625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3733920"/>
            <a:ext cx="30456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andle “special” ca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581280"/>
            <a:ext cx="320040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4120" y="3352680"/>
            <a:ext cx="182880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334120" y="4343400"/>
            <a:ext cx="1752480" cy="99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124080"/>
            <a:ext cx="1828800" cy="914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748200">
            <a:off x="2361960" y="3580920"/>
            <a:ext cx="18288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3048120"/>
            <a:ext cx="1828800" cy="914400"/>
          </a:xfrm>
          <a:prstGeom prst="ellipse">
            <a:avLst/>
          </a:prstGeom>
          <a:solidFill>
            <a:srgbClr val="66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4952880"/>
            <a:ext cx="1828800" cy="9144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4191120"/>
            <a:ext cx="30492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xagon –Solution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ynamic Programm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or all area subsets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), find the best solution using each parc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K: Key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209680" y="2209680"/>
          <a:ext cx="4800600" cy="4038840"/>
        </p:xfrm>
        <a:graphic>
          <a:graphicData uri="http://schemas.openxmlformats.org/drawingml/2006/table">
            <a:tbl>
              <a:tblPr/>
              <a:tblGrid>
                <a:gridCol w="479520"/>
                <a:gridCol w="480960"/>
                <a:gridCol w="479520"/>
                <a:gridCol w="480960"/>
                <a:gridCol w="479520"/>
                <a:gridCol w="479520"/>
                <a:gridCol w="480960"/>
                <a:gridCol w="479160"/>
                <a:gridCol w="481320"/>
                <a:gridCol w="4791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Breadth-First 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mbination of position and keys (!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4 keys =&gt; 16 combin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B: Billboard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666880" y="2438280"/>
          <a:ext cx="3581640" cy="3125880"/>
        </p:xfrm>
        <a:graphic>
          <a:graphicData uri="http://schemas.openxmlformats.org/drawingml/2006/table">
            <a:tbl>
              <a:tblPr/>
              <a:tblGrid>
                <a:gridCol w="400320"/>
                <a:gridCol w="395280"/>
                <a:gridCol w="347400"/>
                <a:gridCol w="449280"/>
                <a:gridCol w="397080"/>
                <a:gridCol w="398520"/>
                <a:gridCol w="398160"/>
                <a:gridCol w="395280"/>
                <a:gridCol w="40032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s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on (1,7) 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8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,6) +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343400" y="2819520"/>
          <a:ext cx="4268880" cy="3554280"/>
        </p:xfrm>
        <a:graphic>
          <a:graphicData uri="http://schemas.openxmlformats.org/drawingml/2006/table">
            <a:tbl>
              <a:tblPr/>
              <a:tblGrid>
                <a:gridCol w="427320"/>
                <a:gridCol w="426960"/>
                <a:gridCol w="425520"/>
                <a:gridCol w="428400"/>
                <a:gridCol w="426960"/>
                <a:gridCol w="425520"/>
                <a:gridCol w="428760"/>
                <a:gridCol w="425520"/>
                <a:gridCol w="426960"/>
                <a:gridCol w="426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!!!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716292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53080" y="30481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086600" y="25146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31240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L: Logic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38098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? There is no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” follow the conne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 logical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tes with no inp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O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ogic – Potential Pitfa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ting and joining path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We must remember, what has already been compu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096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096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812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812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812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244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244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44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244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96080" y="44956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96080" y="43434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6483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48006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49528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51055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96080" y="52578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96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556272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696080" y="5867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81680" y="4191120"/>
            <a:ext cx="914400" cy="1828800"/>
          </a:xfrm>
          <a:prstGeom prst="rect">
            <a:avLst/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N: Number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3733920"/>
            <a:ext cx="6095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0101010100101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-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= -1090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the formula in the problem stat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257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-4000 + 200 – 50 + 7 = -384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umbers – 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cimal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e remainders (modul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reful with the negative number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237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2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2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4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3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4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&gt; -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mod 10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&gt; </a:t>
            </a: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1637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P: Polygon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2819520"/>
            <a:ext cx="0" cy="25905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5410080"/>
            <a:ext cx="36576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400800" y="380952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572000" y="3809880"/>
            <a:ext cx="18288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809880"/>
            <a:ext cx="0" cy="6098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281916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43200" y="2819520"/>
            <a:ext cx="838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order of polygon vert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4792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638680" y="1523880"/>
          <a:ext cx="1904760" cy="1828800"/>
        </p:xfrm>
        <a:graphic>
          <a:graphicData uri="http://schemas.openxmlformats.org/drawingml/2006/table">
            <a:tbl>
              <a:tblPr/>
              <a:tblGrid>
                <a:gridCol w="666720"/>
                <a:gridCol w="658800"/>
                <a:gridCol w="579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 rot="16200000">
            <a:off x="4038480" y="1904400"/>
            <a:ext cx="990360" cy="990720"/>
          </a:xfrm>
          <a:prstGeom prst="downArrow">
            <a:avLst>
              <a:gd name="adj1" fmla="val 39722"/>
              <a:gd name="adj2" fmla="val 46971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3886200"/>
            <a:ext cx="8226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Test all existing subs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cs-CZ" sz="3200" spc="-1" strike="noStrike" baseline="30000">
                <a:solidFill>
                  <a:srgbClr val="ffffff"/>
                </a:solidFill>
                <a:latin typeface="Arial"/>
              </a:rPr>
              <a:t>256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possibiliti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for the 16x16 boar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the vertices by their X coordin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Find their horizont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95480" y="3886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8098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43200" y="281952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5410080"/>
            <a:ext cx="35049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t by Y =&gt; vertical neigh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05320" y="2286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400800" y="3200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44956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3372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00800" y="54100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3733920"/>
            <a:ext cx="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743200" y="2819520"/>
            <a:ext cx="0" cy="2590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24480" y="38098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each vertex knows its neighb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t with the first, and walk a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lygon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1371600"/>
            <a:ext cx="8226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t Left / Right tur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Left &gt; Right 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&gt; counter-clockw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05320" y="43434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495680" y="426708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36576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37339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525780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666880" y="5334120"/>
            <a:ext cx="228600" cy="2286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81280" y="289548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581280" y="4419720"/>
            <a:ext cx="990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37339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666880" y="289548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2895480"/>
            <a:ext cx="0" cy="259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743200" y="541008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324480" y="38095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5638320" y="380988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43434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81080" y="2743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2666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50292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77120" y="5105520"/>
            <a:ext cx="68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477120" y="342900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R: Roshambo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495680" cy="359712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S: Robotic Sort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19920" cy="38862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ive approach – reverse in an arr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ttle bit better: remember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atic time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00 00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8080" y="380988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4191120" y="4724280"/>
            <a:ext cx="733320" cy="60984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838080" y="5562720"/>
          <a:ext cx="7391520" cy="68580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24120"/>
                <a:gridCol w="923760"/>
                <a:gridCol w="924120"/>
                <a:gridCol w="923760"/>
                <a:gridCol w="924120"/>
                <a:gridCol w="9237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Another Approa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uble-linked li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 finding the </a:t>
            </a: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„forward direction“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00400" y="3429000"/>
            <a:ext cx="5335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911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1055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19920" y="34290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010280" y="34290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3429000"/>
            <a:ext cx="5331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3392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242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752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74320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7339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6483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56272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5530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096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0199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010280" y="5257800"/>
            <a:ext cx="53352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5257800"/>
            <a:ext cx="53316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7432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752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4320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339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6483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5530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4380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467480" y="57150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35812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7467480" y="388620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7913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6212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761760" y="6324480"/>
            <a:ext cx="51051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867280" y="57146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867280" y="5715000"/>
            <a:ext cx="152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790960" y="541008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62120" y="4800600"/>
            <a:ext cx="502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4343400"/>
            <a:ext cx="733680" cy="609480"/>
          </a:xfrm>
          <a:prstGeom prst="downArrow">
            <a:avLst>
              <a:gd name="adj1" fmla="val 31731"/>
              <a:gd name="adj2" fmla="val 56769"/>
            </a:avLst>
          </a:prstGeom>
          <a:solidFill>
            <a:srgbClr val="ff9933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2120" y="480024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5410080"/>
            <a:ext cx="45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mbined solu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use bo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inked li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array of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rray time: O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v_befo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SQRT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steps: reor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.SQRT(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ti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419720"/>
            <a:ext cx="8226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f we somehow knew the tapped tiles in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rt –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possibilities - ??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val Tre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W: Water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214800" cy="4038480"/>
          </a:xfrm>
          <a:prstGeom prst="rect">
            <a:avLst/>
          </a:prstGeom>
          <a:ln w="5724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enter of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ount of water with the lowest cent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581280" y="4114800"/>
            <a:ext cx="1524240" cy="1219320"/>
          </a:xfrm>
          <a:custGeom>
            <a:avLst/>
            <a:gdLst>
              <a:gd name="textAreaLeft" fmla="*/ 336960 w 1524240"/>
              <a:gd name="textAreaRight" fmla="*/ 1187280 w 1524240"/>
              <a:gd name="textAreaTop" fmla="*/ 269640 h 1219320"/>
              <a:gd name="textAreaBottom" fmla="*/ 94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153" y="21600"/>
                </a:lnTo>
                <a:lnTo>
                  <a:pt x="5447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it the glass into horizonta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me of one slice: </a:t>
            </a:r>
            <a:r>
              <a:rPr b="1" lang="el-GR" sz="3200" spc="-1" strike="noStrike">
                <a:solidFill>
                  <a:srgbClr val="ffff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r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05120" y="3733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3505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3962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41911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4197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46483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05120" y="48769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05120" y="5105520"/>
            <a:ext cx="4647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3341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28800" y="55627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81280" y="4191120"/>
            <a:ext cx="1447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Mass of the g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ighted average of all sli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505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971800" y="3733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048120" y="39625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24080" y="41911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44197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6483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4876920"/>
            <a:ext cx="4572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5105520"/>
            <a:ext cx="5335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29000" y="5334120"/>
            <a:ext cx="182880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05320" y="5562720"/>
            <a:ext cx="16761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the water “slowl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er of water m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e both center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weighted averag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1120" y="4952880"/>
            <a:ext cx="30456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191120" y="43434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33920" y="4648320"/>
            <a:ext cx="11430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86200" y="5105520"/>
            <a:ext cx="8380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09880" y="4876920"/>
            <a:ext cx="9907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ter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3520" y="1523880"/>
            <a:ext cx="8226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reached the center ? =&gt;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END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Linear time needed onl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320040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05320" y="5791320"/>
            <a:ext cx="16761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181480" y="3200040"/>
            <a:ext cx="762120" cy="2590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20040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962520" y="5334120"/>
            <a:ext cx="76176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724280" y="3200040"/>
            <a:ext cx="685800" cy="2133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191120" y="4114800"/>
            <a:ext cx="30456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91120" y="4876920"/>
            <a:ext cx="304560" cy="304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2819520"/>
            <a:ext cx="0" cy="350496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44956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Arial"/>
              </a:rPr>
              <a:t>Statistic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447920" y="1981080"/>
          <a:ext cx="5910120" cy="4348440"/>
        </p:xfrm>
        <a:graphic>
          <a:graphicData uri="http://schemas.openxmlformats.org/drawingml/2006/table">
            <a:tbl>
              <a:tblPr/>
              <a:tblGrid>
                <a:gridCol w="1616040"/>
                <a:gridCol w="858600"/>
                <a:gridCol w="858960"/>
                <a:gridCol w="858960"/>
                <a:gridCol w="858600"/>
                <a:gridCol w="85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A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lboard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xa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Key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gi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lygo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oshamb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r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6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try what happens with the r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W! It is easy to find the second one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419720"/>
            <a:ext cx="8226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’s also do i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hird row becomes evid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so 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048120" y="1523880"/>
          <a:ext cx="2971800" cy="2438640"/>
        </p:xfrm>
        <a:graphic>
          <a:graphicData uri="http://schemas.openxmlformats.org/drawingml/2006/table">
            <a:tbl>
              <a:tblPr/>
              <a:tblGrid>
                <a:gridCol w="331560"/>
                <a:gridCol w="328680"/>
                <a:gridCol w="287280"/>
                <a:gridCol w="373320"/>
                <a:gridCol w="330120"/>
                <a:gridCol w="330120"/>
                <a:gridCol w="330120"/>
                <a:gridCol w="328680"/>
                <a:gridCol w="331920"/>
              </a:tblGrid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65b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llboard </a:t>
            </a: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600200"/>
            <a:ext cx="8226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k, but how to find the first row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We will try all possibilities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* 16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00200" y="2438280"/>
            <a:ext cx="6095880" cy="36576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2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Arial"/>
              </a:rPr>
              <a:t>C: Phone Cell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902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10:40:39Z</dcterms:created>
  <dc:creator>Martin Kacer</dc:creator>
  <dc:description/>
  <dc:language>en-US</dc:language>
  <cp:lastModifiedBy>Martin Kačer</cp:lastModifiedBy>
  <dcterms:modified xsi:type="dcterms:W3CDTF">2007-11-15T09:14:24Z</dcterms:modified>
  <cp:revision>115</cp:revision>
  <dc:subject/>
  <dc:title>Slide 1</dc:title>
</cp:coreProperties>
</file>